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040C-49C8-47CC-B4A0-77918DE31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F112-A640-4036-9D09-4F38C6F71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6901-73CC-4BEA-81F1-69F77C765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A619-2EFD-468F-92F4-E93973C1BC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81047-7A5C-4B9B-A18C-8A9EBD114E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4DD4-3BE0-4310-9043-E4B75168C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2AFA-F04F-436C-A4A9-B2170AF1D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0261-9018-44B5-8E72-F001937A4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8639-C95E-4F83-B916-9E15626163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AD05-DA0E-483C-A17B-246FA8673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D896-1522-44B6-A0EA-A07C5CC7C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6E92-5ED1-44ED-994A-22675A405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1EC4-CAE6-497A-9E47-F3E6B3A148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FF67-66D0-40BB-95A8-2B08A28EF9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ink-Pair-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13716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specific student you have encountered who has a learning disability and finds learning particularly challenging.  Which of the cognitive processes pose challenges for this student?  How did that manifest itself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BCAB-F4AE-4058-9130-7A9B4031C8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IPS Less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TIPS lesson from the sample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lesson to familiarize yourself with the content and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it again with the cognitive processes in mind, 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 modifications to better meet needs of students with learning dis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modifications already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9E88-9031-4F73-8B99-8E448FACE2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ample TIPS Less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952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one of the following les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9 Applied -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0 Applied - Trigon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1 Workplace -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1 Functions and Applications -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2 Advanced Functions - Rationa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0F51-4FFB-46F4-9D7F-5694AF600E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nah Zike’s Teaching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hematics with Foldab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35B4-2AAF-4DC4-A364-FD3AF22AFC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33520" y="20178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dables result in student-made study guides that are compiled as students listen for main ideas, read for main ideas, and work their way through new concepts and procedur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5715000" y="4114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4E49-C0D8-4223-9386-7E0A7DB33D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304920" y="160020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template from the samples of “foldables”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“foldable” related to your TIPS lesson to support students with learning dis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40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reate a “Foldable”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D6F0-C610-4E29-87EC-1C97D562D1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457200" y="76320"/>
            <a:ext cx="8156520" cy="53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7F70-59F6-42C7-8B61-91BC4DB800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144440" y="304920"/>
            <a:ext cx="693288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C388-C1A1-477E-A776-CB9D0C49E5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87960" cy="403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5638680" y="914400"/>
            <a:ext cx="301788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1B45-84EA-4382-8A96-63D4041B22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543800" cy="51814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/>
          <p:cNvSpPr/>
          <p:nvPr/>
        </p:nvSpPr>
        <p:spPr>
          <a:xfrm>
            <a:off x="6553080" y="76320"/>
            <a:ext cx="152424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ree-Tab Boo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FAC6-7151-4929-B533-2CB4E535D4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457200" y="609480"/>
            <a:ext cx="51814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ld a sheet of paper like a hot d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ith the paper horizontal, and the fold of the hot dog up, fold the right side toward the center, trying to cover one half of the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ld the left side over the right side to make a book with three fo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pen the folded book. Cut up the two valleys on the top side only. This will form three ta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this book for data occurring in thr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116760" y="533520"/>
            <a:ext cx="1655640" cy="761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62920" y="1371600"/>
            <a:ext cx="1447560" cy="1147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6324480" y="2209680"/>
            <a:ext cx="838440" cy="130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6515280" y="4038480"/>
            <a:ext cx="1866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23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2000"/>
          </a:bodyPr>
          <a:p>
            <a:pPr marL="35172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discuss and expl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72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gnitive processes, and how they impact students with learning dis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72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to increase success for students with learning disabilities (e.g. creating foldab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72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B439-CC7C-4966-8DEC-4888EEE8FF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3738-639D-45CE-8F2E-9BC7AA511F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334800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69900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2133720" y="4495680"/>
            <a:ext cx="4114800" cy="176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6553080" y="2286000"/>
            <a:ext cx="1828800" cy="3448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5"/>
          <a:stretch/>
        </p:blipFill>
        <p:spPr>
          <a:xfrm>
            <a:off x="990720" y="2362320"/>
            <a:ext cx="42465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BE1C-C5B7-4AAA-9236-470DE8A9F8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41120" y="380880"/>
            <a:ext cx="8622000" cy="3962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5759280" y="3219480"/>
            <a:ext cx="285120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08E4-5AFC-45AA-9288-5577904EBA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867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E211-824D-488F-A18C-767D228489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5279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5B52-EE02-4CC8-95CA-6E5AF30091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581280" cy="2538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93048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3"/>
          <a:stretch/>
        </p:blipFill>
        <p:spPr>
          <a:xfrm>
            <a:off x="1295280" y="2971800"/>
            <a:ext cx="4373640" cy="1752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4"/>
          <a:stretch/>
        </p:blipFill>
        <p:spPr>
          <a:xfrm>
            <a:off x="6934320" y="2514600"/>
            <a:ext cx="1600200" cy="3745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5"/>
          <a:stretch/>
        </p:blipFill>
        <p:spPr>
          <a:xfrm>
            <a:off x="2438280" y="4876920"/>
            <a:ext cx="41925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83E2-8EA0-44A0-AEB5-B8DFAC903B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"/>
          <p:cNvPicPr/>
          <p:nvPr/>
        </p:nvPicPr>
        <p:blipFill>
          <a:blip r:embed="rId1"/>
          <a:stretch/>
        </p:blipFill>
        <p:spPr>
          <a:xfrm>
            <a:off x="274680" y="314280"/>
            <a:ext cx="7954920" cy="501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5570640" y="5562720"/>
            <a:ext cx="243036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AA6B-28D0-48C7-9F47-EA70D3EFB0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"/>
          <p:cNvPicPr/>
          <p:nvPr/>
        </p:nvPicPr>
        <p:blipFill>
          <a:blip r:embed="rId1"/>
          <a:stretch/>
        </p:blipFill>
        <p:spPr>
          <a:xfrm>
            <a:off x="560520" y="-495360"/>
            <a:ext cx="8126280" cy="59054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5105520" y="-457200"/>
            <a:ext cx="2971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8A34-5F15-48BD-BFF3-B4A365D41B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8727840" cy="4114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6985080" y="4495680"/>
            <a:ext cx="8715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5FD0-2119-4409-A603-BE960F1810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32560" cy="51814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5410080" y="152280"/>
            <a:ext cx="1828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295B-0A34-4F1E-88E8-93261417AA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609480" y="1349280"/>
            <a:ext cx="79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few minutes to look at the foldables c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foldables help students with learning disa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ormal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BB39-FAEF-4798-8F8C-493131BB9F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235080" y="1676520"/>
            <a:ext cx="8680320" cy="3759120"/>
            <a:chOff x="235080" y="1676520"/>
            <a:chExt cx="8680320" cy="3759120"/>
          </a:xfrm>
        </p:grpSpPr>
        <p:pic>
          <p:nvPicPr>
            <p:cNvPr id="56" name="Picture 1" descr=""/>
            <p:cNvPicPr/>
            <p:nvPr/>
          </p:nvPicPr>
          <p:blipFill>
            <a:blip r:embed="rId1"/>
            <a:stretch/>
          </p:blipFill>
          <p:spPr>
            <a:xfrm>
              <a:off x="3054240" y="1676520"/>
              <a:ext cx="586116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4" descr=""/>
            <p:cNvPicPr/>
            <p:nvPr/>
          </p:nvPicPr>
          <p:blipFill>
            <a:blip r:embed="rId2"/>
            <a:stretch/>
          </p:blipFill>
          <p:spPr>
            <a:xfrm>
              <a:off x="235080" y="2971800"/>
              <a:ext cx="2793960" cy="24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8"/>
            <p:cNvSpPr/>
            <p:nvPr/>
          </p:nvSpPr>
          <p:spPr>
            <a:xfrm>
              <a:off x="3664080" y="342900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9"/>
            <p:cNvSpPr/>
            <p:nvPr/>
          </p:nvSpPr>
          <p:spPr>
            <a:xfrm>
              <a:off x="5873760" y="342900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7AC9-D52D-4B18-80DC-CE97903580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ttp://mathnmind.com/PDF%20Files/Pre-Algebra/dzf.pdf</a:t>
            </a:r>
            <a:endParaRPr b="0" lang="en-US" sz="2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speakmath.wordpress.com/2012/03/07/all-about-slope-foldable/# </a:t>
            </a:r>
            <a:br>
              <a:rPr sz="2400"/>
            </a:br>
            <a:endParaRPr b="0" lang="en-US" sz="2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1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FCD8-522C-48EC-B664-F15C7D35B2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2362320" y="1257480"/>
            <a:ext cx="4495680" cy="3085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rcRect l="0" t="22874" r="3443" b="21118"/>
          <a:stretch/>
        </p:blipFill>
        <p:spPr>
          <a:xfrm>
            <a:off x="2286000" y="4495680"/>
            <a:ext cx="47293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is September, and you are working with a new teacher on lesson plan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Math Camp, you have become more aware of the cognitive processes, and how they impact students with learning dis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2 or 3 pieces of advice could you give to help the teacher plan lessons to better meet the needs of these studen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5CB6-4764-4172-AD9F-407DB63BFD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716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ormal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E311-E9BB-4688-98C3-52F07E0DE7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6"/>
          <p:cNvGrpSpPr/>
          <p:nvPr/>
        </p:nvGrpSpPr>
        <p:grpSpPr>
          <a:xfrm>
            <a:off x="235080" y="1600200"/>
            <a:ext cx="8680320" cy="3809880"/>
            <a:chOff x="235080" y="1600200"/>
            <a:chExt cx="8680320" cy="3809880"/>
          </a:xfrm>
        </p:grpSpPr>
        <p:pic>
          <p:nvPicPr>
            <p:cNvPr id="63" name="Picture 1" descr=""/>
            <p:cNvPicPr/>
            <p:nvPr/>
          </p:nvPicPr>
          <p:blipFill>
            <a:blip r:embed="rId1"/>
            <a:stretch/>
          </p:blipFill>
          <p:spPr>
            <a:xfrm>
              <a:off x="3054240" y="1650960"/>
              <a:ext cx="586116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4" descr=""/>
            <p:cNvPicPr/>
            <p:nvPr/>
          </p:nvPicPr>
          <p:blipFill>
            <a:blip r:embed="rId2"/>
            <a:stretch/>
          </p:blipFill>
          <p:spPr>
            <a:xfrm>
              <a:off x="235080" y="2946240"/>
              <a:ext cx="2793960" cy="24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8"/>
            <p:cNvSpPr/>
            <p:nvPr/>
          </p:nvSpPr>
          <p:spPr>
            <a:xfrm>
              <a:off x="3664080" y="340344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5873760" y="340344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8"/>
            <p:cNvSpPr/>
            <p:nvPr/>
          </p:nvSpPr>
          <p:spPr>
            <a:xfrm>
              <a:off x="4114800" y="286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9"/>
            <p:cNvSpPr/>
            <p:nvPr/>
          </p:nvSpPr>
          <p:spPr>
            <a:xfrm>
              <a:off x="6400800" y="286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10"/>
            <p:cNvSpPr/>
            <p:nvPr/>
          </p:nvSpPr>
          <p:spPr>
            <a:xfrm>
              <a:off x="8229600" y="286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2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11"/>
            <p:cNvSpPr/>
            <p:nvPr/>
          </p:nvSpPr>
          <p:spPr>
            <a:xfrm>
              <a:off x="3886200" y="43178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765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13"/>
            <p:cNvSpPr/>
            <p:nvPr/>
          </p:nvSpPr>
          <p:spPr>
            <a:xfrm>
              <a:off x="6096240" y="43135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686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5"/>
            <p:cNvSpPr/>
            <p:nvPr/>
          </p:nvSpPr>
          <p:spPr>
            <a:xfrm>
              <a:off x="3048120" y="1600200"/>
              <a:ext cx="1371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Answer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ew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F5E3-047D-468E-9A44-FA241A8C9B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387360" y="1523880"/>
            <a:ext cx="8528040" cy="3810240"/>
            <a:chOff x="387360" y="1523880"/>
            <a:chExt cx="8528040" cy="3810240"/>
          </a:xfrm>
        </p:grpSpPr>
        <p:pic>
          <p:nvPicPr>
            <p:cNvPr id="76" name="Picture 1" descr=""/>
            <p:cNvPicPr/>
            <p:nvPr/>
          </p:nvPicPr>
          <p:blipFill>
            <a:blip r:embed="rId1"/>
            <a:stretch/>
          </p:blipFill>
          <p:spPr>
            <a:xfrm>
              <a:off x="3054240" y="1523880"/>
              <a:ext cx="586116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"/>
            <p:cNvPicPr/>
            <p:nvPr/>
          </p:nvPicPr>
          <p:blipFill>
            <a:blip r:embed="rId2"/>
            <a:stretch/>
          </p:blipFill>
          <p:spPr>
            <a:xfrm>
              <a:off x="387360" y="2895480"/>
              <a:ext cx="243828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8"/>
            <p:cNvSpPr/>
            <p:nvPr/>
          </p:nvSpPr>
          <p:spPr>
            <a:xfrm>
              <a:off x="3581280" y="327672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9"/>
            <p:cNvSpPr/>
            <p:nvPr/>
          </p:nvSpPr>
          <p:spPr>
            <a:xfrm>
              <a:off x="5873760" y="327672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16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ew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F375-9C47-4DB6-BA97-B114172EF6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5"/>
          <p:cNvGrpSpPr/>
          <p:nvPr/>
        </p:nvGrpSpPr>
        <p:grpSpPr>
          <a:xfrm>
            <a:off x="304920" y="1828800"/>
            <a:ext cx="8534160" cy="3119400"/>
            <a:chOff x="304920" y="1828800"/>
            <a:chExt cx="8534160" cy="3119400"/>
          </a:xfrm>
        </p:grpSpPr>
        <p:pic>
          <p:nvPicPr>
            <p:cNvPr id="83" name="Picture 4" descr=""/>
            <p:cNvPicPr/>
            <p:nvPr/>
          </p:nvPicPr>
          <p:blipFill>
            <a:blip r:embed="rId1"/>
            <a:stretch/>
          </p:blipFill>
          <p:spPr>
            <a:xfrm>
              <a:off x="304920" y="197856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2971800" y="1828800"/>
              <a:ext cx="5867280" cy="28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8"/>
            <p:cNvSpPr/>
            <p:nvPr/>
          </p:nvSpPr>
          <p:spPr>
            <a:xfrm>
              <a:off x="3595680" y="345780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205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"/>
            <p:cNvSpPr/>
            <p:nvPr/>
          </p:nvSpPr>
          <p:spPr>
            <a:xfrm>
              <a:off x="5791320" y="350280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alibri"/>
                </a:rPr>
                <a:t>113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3C49-4E7C-40F6-8E9E-7A15A54051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182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able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520" y="11426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0000"/>
          </a:bodyPr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students with learning disabilities in your school (i.e. in which course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ways your math department/school/Board currently supports students with learning disabilities that you think are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1B88-E092-457A-BA93-A7F409D1BB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.A.T. City Workshop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3581640" cy="2209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4952880" y="990720"/>
            <a:ext cx="3429000" cy="2214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380880" y="3962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ips would you give secondary math teachers to help them better meet the needs of students with these types of learning disabil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33520" y="32878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ading Comprehension –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4952880" y="32878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ading and Decoding – p b d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2209680" y="621504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F.A.T. City Workshops (Frustration, Anxiety, Tension), Rick Lavoie,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Karen</cp:lastModifiedBy>
  <dcterms:modified xsi:type="dcterms:W3CDTF">2012-07-22T00:20:59Z</dcterms:modified>
  <cp:revision>54</cp:revision>
  <dc:subject/>
  <dc:title>&lt;Title&gt;</dc:title>
</cp:coreProperties>
</file>